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637-52A1-4F58-AC8B-ECA5E3C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812-2B0D-4FAD-9573-A4AE9C44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8C6-4296-4ED1-B7DD-9EFED898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93A-7178-42CE-B0B5-487EFFFF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4BB-318A-4F40-982E-2A0706A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642-EB74-4ADD-B54C-E5E2DA73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CA1-59B6-4B78-B742-08B4737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FB0-D132-45F4-B5B6-CD6140F6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2DE-3D4E-485E-B49F-6470DEA2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D1B-0C1F-45C5-8461-FE1F0EE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046-E508-45C3-A135-0ADDB74B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B9B-C883-47C0-B7E5-BFAA7BA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743-6483-41D7-92CA-4041495BC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Tra poco, Lei entrera’ in un mondo magico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desso, mi guardi fisso negli occhi e si concentri sulla s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Io non la conos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on ho potuto vedere quello che ha scel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ma so esattamente la carta che e’ nella s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Guardi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a sua carta non c’e’ piu’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orpr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Ci vediam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e restano 7 giorni di vita dopo aver visto questo messaggio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....oppure lo spedisca a quelli che non credono in m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ra poch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Lei sara’ testimone di qualcosa di molto special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ara’ testimone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i una sorprendente illusion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si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nostante questo sia un programma normal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i vedra’ ch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o posso, attraverso lo schermo, leggere i suoi pensier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Di fronte a lei ci sono 6 carte divers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Pensi ad una di ques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solamen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n la tocchi ne’ faccia click su di essa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Posso trovare quella carta nella sua 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un attimo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Brusel</cp:lastModifiedBy>
  <dcterms:modified xsi:type="dcterms:W3CDTF">2003-10-01T09:22:14Z</dcterms:modified>
  <cp:revision>47</cp:revision>
  <dc:subject/>
  <dc:title>DC</dc:title>
</cp:coreProperties>
</file>