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73D9D-375E-4E62-8288-13AE0F3EB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D3A6-DAAB-4CFC-B373-55E5F7596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D87C-F34E-4AC5-8C03-DA1E7009F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FB4A-8539-4605-9720-554AFED8F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E7A1-D2D4-47ED-8296-8B919FCCB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0228-1F18-448B-94FF-5AF2F9AD8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35D92-CB21-43C7-804A-1441CED61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A0BD7-7981-4E11-8213-3FEE40764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0B490-98D0-46A7-8374-0A257B6C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3B2A3-DA31-40D9-BBDE-63C43283A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A4884-5FDA-4A35-928F-1CEFC3723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9A97-2ED3-4861-8486-43F68463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5099-030B-4F22-A58B-C0ED7E32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E16AF-2B05-4C23-AB5A-ACC9744CB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15654-45B3-4DB5-8D5C-D5D55007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AD87F-DE8E-4C4D-AD69-AAE15E52FD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5A626-39D1-4677-8101-223EDD37B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C7ED-7D55-4107-AC22-8BD066E0A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D7E8-4354-4EB5-AD3C-C167B0F76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B9D0-7B92-448F-8980-A06119E55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DEFD-4FC3-4511-8B75-56BB817B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06FA-81EB-4B48-BB74-D14FD990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0C4A7-739D-46E5-9BEC-7FAF4F8A6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BF697-3299-4D08-B0FB-BBEAF1EAE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457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00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114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029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943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858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772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686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21" name=""/>
              <p:cNvGrpSpPr/>
              <p:nvPr/>
            </p:nvGrpSpPr>
            <p:grpSpPr>
              <a:xfrm>
                <a:off x="0" y="533520"/>
                <a:ext cx="9144000" cy="5943600"/>
                <a:chOff x="0" y="533520"/>
                <a:chExt cx="9144000" cy="5943600"/>
              </a:xfrm>
            </p:grpSpPr>
            <p:sp>
              <p:nvSpPr>
                <p:cNvPr id="22" name=""/>
                <p:cNvSpPr/>
                <p:nvPr/>
              </p:nvSpPr>
              <p:spPr>
                <a:xfrm>
                  <a:off x="0" y="533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990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1447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1905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0" y="2362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0" y="2819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0" y="3276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0" y="3733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0" y="4191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0" y="4648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0" y="5105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0" y="5562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0" y="6019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0" y="6477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36" name=""/>
            <p:cNvGrpSpPr/>
            <p:nvPr/>
          </p:nvGrpSpPr>
          <p:grpSpPr>
            <a:xfrm>
              <a:off x="609480" y="6248160"/>
              <a:ext cx="7925040" cy="609480"/>
              <a:chOff x="609480" y="6248160"/>
              <a:chExt cx="7925040" cy="609480"/>
            </a:xfrm>
          </p:grpSpPr>
          <p:sp>
            <p:nvSpPr>
              <p:cNvPr id="37" name=""/>
              <p:cNvSpPr/>
              <p:nvPr/>
            </p:nvSpPr>
            <p:spPr>
              <a:xfrm flipV="1" rot="16200000">
                <a:off x="7248600" y="5549040"/>
                <a:ext cx="587160" cy="198432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flipV="1" rot="16200000">
                <a:off x="7507080" y="5841000"/>
                <a:ext cx="50760" cy="1981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V="1" rot="16200000">
                <a:off x="1315800" y="5549040"/>
                <a:ext cx="587160" cy="19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flipV="1" rot="16200000">
                <a:off x="1574640" y="5841000"/>
                <a:ext cx="50760" cy="19814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flipV="1" rot="16200000">
                <a:off x="4283640" y="5099040"/>
                <a:ext cx="587160" cy="28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6200000">
                <a:off x="4538520" y="5391720"/>
                <a:ext cx="50760" cy="2880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43" name=""/>
          <p:cNvGrpSpPr/>
          <p:nvPr/>
        </p:nvGrpSpPr>
        <p:grpSpPr>
          <a:xfrm>
            <a:off x="0" y="0"/>
            <a:ext cx="9144000" cy="236520"/>
            <a:chOff x="0" y="0"/>
            <a:chExt cx="9144000" cy="236520"/>
          </a:xfrm>
        </p:grpSpPr>
        <p:pic>
          <p:nvPicPr>
            <p:cNvPr id="44" name="techstri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146160"/>
              <a:ext cx="9144000" cy="47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89000"/>
              <a:ext cx="9144000" cy="47520"/>
            </a:xfrm>
            <a:prstGeom prst="rect">
              <a:avLst/>
            </a:prstGeom>
            <a:solidFill>
              <a:srgbClr val="47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69920" indent="-16488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cc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283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cc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62DFD-4AD9-4A76-8861-C77BB443E77A}" type="slidenum">
              <a:rPr b="0" lang="de-DE" sz="1400" spc="-1" strike="noStrike">
                <a:solidFill>
                  <a:srgbClr val="99cccc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"/>
            <p:cNvSpPr/>
            <p:nvPr/>
          </p:nvSpPr>
          <p:spPr>
            <a:xfrm flipV="1">
              <a:off x="457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1371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286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200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114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029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943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858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772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686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380880"/>
              <a:ext cx="9144000" cy="5943600"/>
              <a:chOff x="0" y="380880"/>
              <a:chExt cx="9144000" cy="594360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6324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5867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410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952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495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038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3581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124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2666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209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752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295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838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380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0" y="1676520"/>
            <a:ext cx="9144000" cy="152280"/>
          </a:xfrm>
          <a:prstGeom prst="rect">
            <a:avLst/>
          </a:pr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3787920" y="-1245240"/>
            <a:ext cx="1595520" cy="7591320"/>
          </a:xfrm>
          <a:custGeom>
            <a:avLst/>
            <a:gdLst/>
            <a:ahLst/>
            <a:rect l="l" t="t" r="r" b="b"/>
            <a:pathLst>
              <a:path w="290" h="1250">
                <a:moveTo>
                  <a:pt x="0" y="2"/>
                </a:moveTo>
                <a:cubicBezTo>
                  <a:pt x="0" y="2"/>
                  <a:pt x="120" y="2"/>
                  <a:pt x="240" y="2"/>
                </a:cubicBezTo>
                <a:cubicBezTo>
                  <a:pt x="262" y="0"/>
                  <a:pt x="290" y="12"/>
                  <a:pt x="288" y="50"/>
                </a:cubicBezTo>
                <a:cubicBezTo>
                  <a:pt x="288" y="626"/>
                  <a:pt x="288" y="1202"/>
                  <a:pt x="288" y="1202"/>
                </a:cubicBezTo>
                <a:cubicBezTo>
                  <a:pt x="288" y="1232"/>
                  <a:pt x="274" y="1250"/>
                  <a:pt x="240" y="1250"/>
                </a:cubicBezTo>
                <a:cubicBezTo>
                  <a:pt x="120" y="1250"/>
                  <a:pt x="0" y="1250"/>
                  <a:pt x="0" y="1250"/>
                </a:cubicBezTo>
                <a:lnTo>
                  <a:pt x="0" y="2"/>
                </a:lnTo>
                <a:close/>
              </a:path>
            </a:pathLst>
          </a:cu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5" name="techstrip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3240" y="1752480"/>
            <a:ext cx="9147240" cy="74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4C697-FC0F-49FA-A57D-AF77F12623E3}" type="slidenum">
              <a:rPr b="0" lang="de-DE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91440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6600"/>
                </a:solidFill>
                <a:latin typeface="ISOCTEUR"/>
              </a:rPr>
              <a:t>     </a:t>
            </a:r>
            <a:r>
              <a:rPr b="1" lang="de-DE" sz="4000" spc="-1" strike="noStrike">
                <a:solidFill>
                  <a:srgbClr val="000000"/>
                </a:solidFill>
                <a:latin typeface="ISOCTEUR"/>
              </a:rPr>
              <a:t>Vincitori del Concorso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2895480"/>
            <a:ext cx="86104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f6600"/>
                </a:solidFill>
                <a:latin typeface="ISOCTEUR"/>
              </a:rPr>
              <a:t>SICUREZZA</a:t>
            </a:r>
            <a:endParaRPr b="0" lang="en-US" sz="5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f6600"/>
                </a:solidFill>
                <a:latin typeface="ISOCTEUR"/>
              </a:rPr>
              <a:t> </a:t>
            </a:r>
            <a:r>
              <a:rPr b="1" lang="de-DE" sz="5400" spc="-1" strike="noStrike">
                <a:solidFill>
                  <a:srgbClr val="ff6600"/>
                </a:solidFill>
                <a:latin typeface="ISOCTEUR"/>
              </a:rPr>
              <a:t>SUL LAVORO</a:t>
            </a:r>
            <a:endParaRPr b="0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117880" y="188604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20574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E il </a:t>
            </a:r>
            <a:r>
              <a:rPr b="1" lang="de-DE" sz="6000" spc="-1" strike="noStrike">
                <a:solidFill>
                  <a:srgbClr val="ff6600"/>
                </a:solidFill>
                <a:latin typeface="ISOCTEUR"/>
              </a:rPr>
              <a:t>VINCITORE </a:t>
            </a: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è ...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782200" cy="57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117880" y="188604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213372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6600"/>
                </a:solidFill>
                <a:latin typeface="ISOCTEUR"/>
              </a:rPr>
              <a:t>MENZIONE SPECIALE Premio della Giuria </a:t>
            </a:r>
            <a:r>
              <a:rPr b="1" lang="de-DE" sz="6000" spc="-1" strike="noStrike">
                <a:solidFill>
                  <a:srgbClr val="000000"/>
                </a:solidFill>
                <a:latin typeface="ISOCTEUR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Astuce%20de%20taille" descr=""/>
          <p:cNvPicPr/>
          <p:nvPr/>
        </p:nvPicPr>
        <p:blipFill>
          <a:blip r:embed="rId1"/>
          <a:stretch/>
        </p:blipFill>
        <p:spPr>
          <a:xfrm>
            <a:off x="1150920" y="865080"/>
            <a:ext cx="6840720" cy="51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117880" y="188604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05740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6600"/>
                </a:solidFill>
                <a:latin typeface="ISOCTEUR"/>
              </a:rPr>
              <a:t>FUORI CONCORSO</a:t>
            </a:r>
            <a:br>
              <a:rPr sz="6000"/>
            </a:br>
            <a:r>
              <a:rPr b="1" lang="de-DE" sz="6000" spc="-1" strike="noStrike">
                <a:solidFill>
                  <a:srgbClr val="ff6600"/>
                </a:solidFill>
                <a:latin typeface="ISOCTEUR"/>
              </a:rPr>
              <a:t>Laurea ad honorem </a:t>
            </a:r>
            <a:r>
              <a:rPr b="1" lang="de-DE" sz="6000" spc="-1" strike="noStrike">
                <a:solidFill>
                  <a:srgbClr val="000000"/>
                </a:solidFill>
                <a:latin typeface="ISOCTEUR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0" t="0" r="0" b="6136"/>
          <a:stretch/>
        </p:blipFill>
        <p:spPr>
          <a:xfrm>
            <a:off x="2654280" y="996840"/>
            <a:ext cx="3835440" cy="45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38080" y="266688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Al quinto posto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0" t="8620" r="0" b="0"/>
          <a:stretch/>
        </p:blipFill>
        <p:spPr>
          <a:xfrm>
            <a:off x="209520" y="609480"/>
            <a:ext cx="8724960" cy="53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38080" y="2590920"/>
            <a:ext cx="765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Al quarto posto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SafetyOfficer07%5B1%5D" descr=""/>
          <p:cNvPicPr/>
          <p:nvPr/>
        </p:nvPicPr>
        <p:blipFill>
          <a:blip r:embed="rId1"/>
          <a:stretch/>
        </p:blipFill>
        <p:spPr>
          <a:xfrm>
            <a:off x="2166840" y="276120"/>
            <a:ext cx="4497480" cy="589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38080" y="2743200"/>
            <a:ext cx="749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Al terzo posto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SafetyOfficer05%5B1%5D" descr=""/>
          <p:cNvPicPr/>
          <p:nvPr/>
        </p:nvPicPr>
        <p:blipFill>
          <a:blip r:embed="rId1"/>
          <a:stretch/>
        </p:blipFill>
        <p:spPr>
          <a:xfrm>
            <a:off x="2506680" y="380880"/>
            <a:ext cx="38736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-199800" y="2590920"/>
            <a:ext cx="749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Al secondo posto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66880" y="304920"/>
            <a:ext cx="3829320" cy="5781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3:49:11Z</dcterms:created>
  <dc:creator>-</dc:creator>
  <dc:description/>
  <dc:language>en-US</dc:language>
  <cp:lastModifiedBy>Danilo</cp:lastModifiedBy>
  <cp:lastPrinted>2009-04-22T19:24:48Z</cp:lastPrinted>
  <dcterms:modified xsi:type="dcterms:W3CDTF">2005-01-28T11:42:05Z</dcterms:modified>
  <cp:revision>23</cp:revision>
  <dc:subject/>
  <dc:title>PowerPoint-Präsentation</dc:title>
</cp:coreProperties>
</file>